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1.png" ContentType="image/png"/>
  <Override PartName="/ppt/media/image8.pct" ContentType="image/x-pict"/>
  <Override PartName="/ppt/media/image13.pct" ContentType="image/x-pict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13F7B-2E92-4883-9C68-DC06401D2D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DFCDD-D912-4B1D-9AEA-212953841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 basics -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C31-2C50-4722-AD50-EECBB789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B6E-8BA0-4451-B45F-836C07E7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1AF-B544-4CEA-B62B-3AA7DC98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719-7C26-41F6-AE93-8476F5A5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F39-F1DD-495A-B75B-C058974B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ECC-E3CE-44BA-94D2-DE6E8EDE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1D3-02F6-4690-9A6D-89490E21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965-83FE-40C4-AA2F-0D0440E3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8B3-EC6D-44B9-B652-7610849F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F8E-D5C7-4225-AA46-10135FED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495-7C7B-4177-8856-87F9433F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D77-3886-4CA6-9E9B-63E92313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BFE3E-82CB-4880-8BCC-1B15EC8796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3600C-81DD-43B0-ACDC-9954950FB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"/><Relationship Id="rId34" Type="http://schemas.openxmlformats.org/officeDocument/2006/relationships/slide" Target="slide36.xml"/><Relationship Id="rId35" Type="http://schemas.openxmlformats.org/officeDocument/2006/relationships/slide" Target=""/><Relationship Id="rId36" Type="http://schemas.openxmlformats.org/officeDocument/2006/relationships/slide" Target="slide38.xml"/><Relationship Id="rId37" Type="http://schemas.openxmlformats.org/officeDocument/2006/relationships/slide" Target="slide40.xml"/><Relationship Id="rId3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606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3036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3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3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3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37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it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n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if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nom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ding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btrac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n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s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3276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47920" y="1219320"/>
            <a:ext cx="624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071720" y="2122560"/>
            <a:ext cx="6852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(It passes the vertical line test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0" y="11430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631960" y="2701800"/>
                <a:ext cx="36626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TextBox 5"/>
          <p:cNvSpPr/>
          <p:nvPr/>
        </p:nvSpPr>
        <p:spPr>
          <a:xfrm>
            <a:off x="1154160" y="1530360"/>
            <a:ext cx="756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Is it a func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30graphicaa.gif"/>
          <p:cNvPicPr/>
          <p:nvPr/>
        </p:nvPicPr>
        <p:blipFill>
          <a:blip r:embed="rId1"/>
          <a:stretch/>
        </p:blipFill>
        <p:spPr>
          <a:xfrm>
            <a:off x="789120" y="878040"/>
            <a:ext cx="4584600" cy="45846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5875200" y="2108160"/>
            <a:ext cx="24735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Passes v-line tes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616280" y="28954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33520" y="16002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mpl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66680" y="2971800"/>
          <a:ext cx="708660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7086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762120" y="533520"/>
            <a:ext cx="800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990880" y="2743200"/>
          <a:ext cx="280044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2743200"/>
                    <a:ext cx="280044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62120" y="129528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implif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936800" y="3048120"/>
          <a:ext cx="5226120" cy="90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0" y="3048120"/>
                    <a:ext cx="522612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95800" y="2971800"/>
          <a:ext cx="2419200" cy="85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5800" y="2971800"/>
                    <a:ext cx="24192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600200" y="17524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implif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2971800"/>
          <a:ext cx="899136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971800"/>
                    <a:ext cx="89913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09680" y="2743200"/>
          <a:ext cx="464832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743200"/>
                    <a:ext cx="46483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2057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mpl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179360" y="3170160"/>
                <a:ext cx="67374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10666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e6e6e6"/>
                </a:solidFill>
                <a:latin typeface="Jokerman"/>
              </a:rPr>
              <a:t>THIS…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e6e6e6"/>
                </a:solidFill>
                <a:latin typeface="Jokerman"/>
              </a:rPr>
              <a:t>IS…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e6e6e6"/>
                </a:solidFill>
                <a:latin typeface="Jokerman"/>
              </a:rPr>
              <a:t>JEOPARDY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4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66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560"/>
                            </p:stCondLst>
                            <p:childTnLst>
                              <p:par>
                                <p:cTn id="29" nodeType="afterEffect" fill="hold" presetClass="entr" presetID="4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6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2479"/>
                            </p:stCondLst>
                            <p:childTnLst>
                              <p:par>
                                <p:cTn id="35" nodeType="afterEffect" fill="hold" presetClass="entr" presetID="4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6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9120"/>
                            </p:stCondLst>
                            <p:childTnLst>
                              <p:par>
                                <p:cTn id="41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3120"/>
                            </p:stCondLst>
                            <p:childTnLst>
                              <p:par>
                                <p:cTn id="48" nodeType="afterEffect" fill="hold" presetClass="emph" presetID="4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0000004768372">
                                      <p:cBhvr additive="repl">
                                        <p:cTn id="49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4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0000004768372">
                                      <p:cBhvr additive="repl">
                                        <p:cTn id="51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4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0000004768372">
                                      <p:cBhvr additive="repl">
                                        <p:cTn id="53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120"/>
                            </p:stCondLst>
                            <p:childTnLst>
                              <p:par>
                                <p:cTn id="55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5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7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6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6120"/>
                            </p:stCondLst>
                            <p:childTnLst>
                              <p:par>
                                <p:cTn id="83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6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8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8120"/>
                            </p:stCondLst>
                            <p:childTnLst>
                              <p:par>
                                <p:cTn id="90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1" dur="2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animClr clrSpc="rgb">
                                      <p:cBhvr>
                                        <p:cTn id="92" dur="2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3" dur="2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0" dur="2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animClr clrSpc="rgb">
                                      <p:cBhvr>
                                        <p:cTn id="101" dur="2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02" dur="2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9" dur="2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animClr clrSpc="rgb">
                                      <p:cBhvr>
                                        <p:cTn id="110" dur="2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1" dur="2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120"/>
                            </p:stCondLst>
                            <p:childTnLst>
                              <p:par>
                                <p:cTn id="118" nodeType="afterEffect" fill="hold" presetClass="emph" presetID="3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2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3720"/>
                            </p:stCondLst>
                            <p:childTnLst>
                              <p:par>
                                <p:cTn id="134" nodeType="afterEffect" fill="hold" presetClass="emph" presetID="1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1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720"/>
                            </p:stCondLst>
                            <p:childTnLst>
                              <p:par>
                                <p:cTn id="156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9320"/>
                            </p:stCondLst>
                            <p:childTnLst>
                              <p:par>
                                <p:cTn id="175" nodeType="after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2920"/>
                            </p:stCondLst>
                            <p:childTnLst>
                              <p:par>
                                <p:cTn id="194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6520"/>
                            </p:stCondLst>
                            <p:childTnLst>
                              <p:par>
                                <p:cTn id="213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8320"/>
                            </p:stCondLst>
                            <p:childTnLst>
                              <p:par>
                                <p:cTn id="232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1920"/>
                            </p:stCondLst>
                            <p:childTnLst>
                              <p:par>
                                <p:cTn id="25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9120"/>
                            </p:stCondLst>
                            <p:childTnLst>
                              <p:par>
                                <p:cTn id="270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272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73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0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281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82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290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91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120"/>
                            </p:stCondLst>
                            <p:childTnLst>
                              <p:par>
                                <p:cTn id="29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9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02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05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212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4120"/>
                            </p:stCondLst>
                            <p:childTnLst>
                              <p:par>
                                <p:cTn id="31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19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1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3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4120"/>
                            </p:stCondLst>
                            <p:childTnLst>
                              <p:par>
                                <p:cTn id="32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6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8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0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120"/>
                            </p:stCondLst>
                            <p:childTnLst>
                              <p:par>
                                <p:cTn id="332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4120"/>
                            </p:stCondLst>
                            <p:childTnLst>
                              <p:par>
                                <p:cTn id="339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6120"/>
                            </p:stCondLst>
                            <p:childTnLst>
                              <p:par>
                                <p:cTn id="346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48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9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56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57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8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5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66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67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7120"/>
                            </p:stCondLst>
                            <p:childTnLst>
                              <p:par>
                                <p:cTn id="374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7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7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8120"/>
                            </p:stCondLst>
                            <p:childTnLst>
                              <p:par>
                                <p:cTn id="381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8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8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8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10120"/>
                            </p:stCondLst>
                            <p:childTnLst>
                              <p:par>
                                <p:cTn id="38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89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91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93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4120"/>
                            </p:stCondLst>
                            <p:childTnLst>
                              <p:par>
                                <p:cTn id="395" nodeType="afterEffect" fill="hold" presetClass="path" presetID="4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8933 0.046 -0.16667 0.113 -0.172 C 0.177 -0.17867 0.237 -0.11867 0.241 -0.032 C 0.246 0.048 0.204 0.12267 0.144 0.128 C 0.089 0.132 0.037 0.08267 0.033 0.008 C 0.029 -0.06 0.064 -0.124 0.115 -0.12933 C 0.162 -0.13333 0.206 -0.092 0.209 -0.02933 C 0.212 0.02667 0.184 0.08133 0.142 0.084 C 0.104 0.088 0.068 0.056 0.065 0.00533 C 0.063 -0.04 0.084 -0.084 0.117 -0.08667 C 0.146 -0.08933 0.175 -0.06533 0.177 -0.02667 C 0.179 0.00667 0.164 0.03867 0.14 0.04133 C 0.12 0.044 0.099 0.02933 0.098 0.00267 C 0.096 -0.01867 0.104 -0.04133 0.119 -0.044 C 0.131 -0.044 0.143 -0.03867 0.145 -0.024 C 0.146 -0.01467 0.144 -0.00533 0.138 -0.00133 C 0.135 0 0.133 0 0.13 -0.00133 E">
                                      <p:cBhvr>
                                        <p:cTn id="39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4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8933 0.046 -0.16667 0.113 -0.172 C 0.177 -0.17867 0.237 -0.11867 0.241 -0.032 C 0.246 0.048 0.204 0.12267 0.144 0.128 C 0.089 0.132 0.037 0.08267 0.033 0.008 C 0.029 -0.06 0.064 -0.124 0.115 -0.12933 C 0.162 -0.13333 0.206 -0.092 0.209 -0.02933 C 0.212 0.02667 0.184 0.08133 0.142 0.084 C 0.104 0.088 0.068 0.056 0.065 0.00533 C 0.063 -0.04 0.084 -0.084 0.117 -0.08667 C 0.146 -0.08933 0.175 -0.06533 0.177 -0.02667 C 0.179 0.00667 0.164 0.03867 0.14 0.04133 C 0.12 0.044 0.099 0.02933 0.098 0.00267 C 0.096 -0.01867 0.104 -0.04133 0.119 -0.044 C 0.131 -0.044 0.143 -0.03867 0.145 -0.024 C 0.146 -0.01467 0.144 -0.00533 0.138 -0.00133 C 0.135 0 0.133 0 0.13 -0.00133 E">
                                      <p:cBhvr>
                                        <p:cTn id="398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4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8933 0.046 -0.16667 0.113 -0.172 C 0.177 -0.17867 0.237 -0.11867 0.241 -0.032 C 0.246 0.048 0.204 0.12267 0.144 0.128 C 0.089 0.132 0.037 0.08267 0.033 0.008 C 0.029 -0.06 0.064 -0.124 0.115 -0.12933 C 0.162 -0.13333 0.206 -0.092 0.209 -0.02933 C 0.212 0.02667 0.184 0.08133 0.142 0.084 C 0.104 0.088 0.068 0.056 0.065 0.00533 C 0.063 -0.04 0.084 -0.084 0.117 -0.08667 C 0.146 -0.08933 0.175 -0.06533 0.177 -0.02667 C 0.179 0.00667 0.164 0.03867 0.14 0.04133 C 0.12 0.044 0.099 0.02933 0.098 0.00267 C 0.096 -0.01867 0.104 -0.04133 0.119 -0.044 C 0.131 -0.044 0.143 -0.03867 0.145 -0.024 C 0.146 -0.01467 0.144 -0.00533 0.138 -0.00133 C 0.135 0 0.133 0 0.13 -0.00133 E">
                                      <p:cBhvr>
                                        <p:cTn id="40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16120"/>
                            </p:stCondLst>
                            <p:childTnLst>
                              <p:par>
                                <p:cTn id="402" nodeType="afterEffect" fill="hold" presetClass="path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40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405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407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8120"/>
                            </p:stCondLst>
                            <p:childTnLst>
                              <p:par>
                                <p:cTn id="4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21720"/>
                            </p:stCondLst>
                            <p:childTnLst>
                              <p:par>
                                <p:cTn id="42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25320"/>
                            </p:stCondLst>
                            <p:childTnLst>
                              <p:par>
                                <p:cTn id="4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28120"/>
                            </p:stCondLst>
                            <p:childTnLst>
                              <p:par>
                                <p:cTn id="46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31720"/>
                            </p:stCondLst>
                            <p:childTnLst>
                              <p:par>
                                <p:cTn id="482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83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85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87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34720"/>
                            </p:stCondLst>
                            <p:childTnLst>
                              <p:par>
                                <p:cTn id="489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490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492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494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39720"/>
                            </p:stCondLst>
                            <p:childTnLst>
                              <p:par>
                                <p:cTn id="49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7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9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501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42720"/>
                            </p:stCondLst>
                            <p:childTnLst>
                              <p:par>
                                <p:cTn id="503" nodeType="after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504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506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508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45720"/>
                            </p:stCondLst>
                            <p:childTnLst>
                              <p:par>
                                <p:cTn id="510" nodeType="afterEffect" fill="hold" presetClass="path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511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513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515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48720"/>
                            </p:stCondLst>
                            <p:childTnLst>
                              <p:par>
                                <p:cTn id="517" nodeType="afterEffect" fill="hold" presetClass="path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1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20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22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720"/>
                            </p:stCondLst>
                            <p:childTnLst>
                              <p:par>
                                <p:cTn id="524" nodeType="afterEffect" fill="hold" presetClass="pat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5 0.032 0.037 0.06533 0.055 0.07867 C 0.082 0.1 0.108 0.108 0.113 0.09733 C 0.117 0.08667 0.099 0.06 0.072 0.03867 C 0.054 0.02533 0.021 0.016 -0.008 0.01467 C -0.036 0.016 -0.07 0.02533 -0.088 0.03867 C -0.115 0.06 -0.133 0.08667 -0.128 0.09733 C -0.123 0.108 -0.097 0.1 -0.071 0.07867 C -0.053 0.06533 -0.03 0.032 -0.016 0 C -0.001 -0.03333 0.009 -0.07733 0.009 -0.10533 C 0.009 -0.148 0.002 -0.18133 -0.008 -0.18133 C -0.017 -0.18133 -0.025 -0.148 -0.025 -0.10533 C -0.025 -0.07733 -0.014 -0.03333 0 0 Z">
                                      <p:cBhvr>
                                        <p:cTn id="525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5 0.032 0.037 0.06533 0.055 0.07867 C 0.082 0.1 0.108 0.108 0.113 0.09733 C 0.117 0.08667 0.099 0.06 0.072 0.03867 C 0.054 0.02533 0.021 0.016 -0.008 0.01467 C -0.036 0.016 -0.07 0.02533 -0.088 0.03867 C -0.115 0.06 -0.133 0.08667 -0.128 0.09733 C -0.123 0.108 -0.097 0.1 -0.071 0.07867 C -0.053 0.06533 -0.03 0.032 -0.016 0 C -0.001 -0.03333 0.009 -0.07733 0.009 -0.10533 C 0.009 -0.148 0.002 -0.18133 -0.008 -0.18133 C -0.017 -0.18133 -0.025 -0.148 -0.025 -0.10533 C -0.025 -0.07733 -0.014 -0.03333 0 0 Z">
                                      <p:cBhvr>
                                        <p:cTn id="527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5 0.032 0.037 0.06533 0.055 0.07867 C 0.082 0.1 0.108 0.108 0.113 0.09733 C 0.117 0.08667 0.099 0.06 0.072 0.03867 C 0.054 0.02533 0.021 0.016 -0.008 0.01467 C -0.036 0.016 -0.07 0.02533 -0.088 0.03867 C -0.115 0.06 -0.133 0.08667 -0.128 0.09733 C -0.123 0.108 -0.097 0.1 -0.071 0.07867 C -0.053 0.06533 -0.03 0.032 -0.016 0 C -0.001 -0.03333 0.009 -0.07733 0.009 -0.10533 C 0.009 -0.148 0.002 -0.18133 -0.008 -0.18133 C -0.017 -0.18133 -0.025 -0.148 -0.025 -0.10533 C -0.025 -0.07733 -0.014 -0.03333 0 0 Z">
                                      <p:cBhvr>
                                        <p:cTn id="52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2720"/>
                            </p:stCondLst>
                            <p:childTnLst>
                              <p:par>
                                <p:cTn id="531" nodeType="afterEffect" fill="hold" presetClass="pat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3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pat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3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5" nodeType="withEffect" fill="hold" presetClass="pat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36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4720"/>
                            </p:stCondLst>
                            <p:childTnLst>
                              <p:par>
                                <p:cTn id="538" nodeType="afterEffect" fill="hold" presetClass="pat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539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541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543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19944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379680" y="3224160"/>
                <a:ext cx="2335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447920" y="31240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0" y="2514600"/>
            <a:ext cx="96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663360" y="1751760"/>
            <a:ext cx="181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implif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82600" y="2867040"/>
                <a:ext cx="82598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683240" y="24638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459160" y="2700360"/>
                <a:ext cx="44481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447920" y="25909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057400" y="1600200"/>
            <a:ext cx="541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-2033640" y="2133720"/>
            <a:ext cx="13497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833560" y="847800"/>
                <a:ext cx="310212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57400" y="3232080"/>
                <a:ext cx="45626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-566640" y="30160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924280" y="2647800"/>
                <a:ext cx="30589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62120" y="23623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914400" y="29718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833560" y="847800"/>
                <a:ext cx="310212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028960" y="3232080"/>
                <a:ext cx="462096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510080" y="8380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752560" y="2374920"/>
                <a:ext cx="3513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833560" y="847800"/>
                <a:ext cx="310212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028960" y="3232080"/>
                <a:ext cx="462096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951280" y="2374920"/>
                <a:ext cx="31161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195640" y="801720"/>
                <a:ext cx="437976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057400" y="3232080"/>
                <a:ext cx="45626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22480" y="3321000"/>
                <a:ext cx="68022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,3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5,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4,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3,3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TextBox 6"/>
          <p:cNvSpPr/>
          <p:nvPr/>
        </p:nvSpPr>
        <p:spPr>
          <a:xfrm>
            <a:off x="1154160" y="1946160"/>
            <a:ext cx="756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Is it a func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2080" y="2708280"/>
                <a:ext cx="86626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"/>
          <p:cNvSpPr/>
          <p:nvPr/>
        </p:nvSpPr>
        <p:spPr>
          <a:xfrm>
            <a:off x="4479840" y="-60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6480" y="207540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6480" y="38469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6480" y="561852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6480" y="739044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195640" y="801720"/>
                <a:ext cx="437976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028960" y="3232080"/>
                <a:ext cx="462096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3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4479840" y="-60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6480" y="207540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6480" y="38469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6480" y="561852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6480" y="739044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5867280" y="26668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3505320" y="288144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955800" y="2712960"/>
                <a:ext cx="704664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914400" y="19810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22440" y="2300400"/>
            <a:ext cx="775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se are the two tests used to determine whether something is a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4635360" y="2514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3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838080" y="16765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79600" y="2941560"/>
            <a:ext cx="8030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1815120" y="2452680"/>
            <a:ext cx="51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pping Diagra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Vertical Line Tes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1676520" y="213372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f you see this in the vertical line test, you know the relation is NOT a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1447920" y="2057400"/>
            <a:ext cx="6732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A vertical line hits 2 or more points on the graph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0880" y="1523880"/>
            <a:ext cx="847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Give the domain and range of the rel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30120" y="3200400"/>
          <a:ext cx="858528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200400"/>
                    <a:ext cx="85852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549440" y="2120760"/>
          <a:ext cx="5970600" cy="27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2120760"/>
                    <a:ext cx="597060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23880" y="1828800"/>
            <a:ext cx="6400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is is what you look for in a mapping diagram to determine whether or not something is a function.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746720" y="2111400"/>
            <a:ext cx="592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(Each x has only one y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754920" y="1295280"/>
            <a:ext cx="8292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*Arrows coming from the DOMAI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arrows from one numb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a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arrow from each numb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2209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2362320" y="4419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832320" y="2590920"/>
            <a:ext cx="755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ive the definition of a functi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295280" y="205740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 relation where each element in the domain is paired with exactly one element in the rang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295280" y="1523880"/>
            <a:ext cx="662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271520" y="2438280"/>
            <a:ext cx="695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f you’re told to find f(5), what do you do with the number 5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609480" y="2514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ace all the x’s in the function with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533520" y="243828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-685800" y="2057400"/>
            <a:ext cx="10201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iv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d f(-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25760" y="2743200"/>
          <a:ext cx="561312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2743200"/>
                    <a:ext cx="561312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3804480" y="3138840"/>
            <a:ext cx="9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914400" y="1295280"/>
            <a:ext cx="7480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Giv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find f(2c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00200" y="2666880"/>
          <a:ext cx="594360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666880"/>
                    <a:ext cx="59436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676520" y="2590920"/>
          <a:ext cx="57909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5790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371600" y="1752480"/>
            <a:ext cx="693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nd p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8467560" y="5807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893960" y="3048120"/>
                <a:ext cx="5651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905120" y="3124080"/>
            <a:ext cx="541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36800" y="3170160"/>
                <a:ext cx="6975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,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3,7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2,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3,6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TextBox 7"/>
          <p:cNvSpPr/>
          <p:nvPr/>
        </p:nvSpPr>
        <p:spPr>
          <a:xfrm>
            <a:off x="1154160" y="1946160"/>
            <a:ext cx="756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Is it a func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962520" y="2608200"/>
            <a:ext cx="29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1295280" y="990720"/>
            <a:ext cx="678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806560" y="266760"/>
            <a:ext cx="3289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Giv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Find 3p(2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893960" y="3048120"/>
                <a:ext cx="5651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538440" y="2405160"/>
            <a:ext cx="281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447920" y="2054160"/>
            <a:ext cx="6553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The 3 in the domain has two different range value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265640" y="348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7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176720" y="3321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sidequad.gif"/>
          <p:cNvPicPr/>
          <p:nvPr/>
        </p:nvPicPr>
        <p:blipFill>
          <a:blip r:embed="rId1"/>
          <a:stretch/>
        </p:blipFill>
        <p:spPr>
          <a:xfrm>
            <a:off x="2540160" y="2065320"/>
            <a:ext cx="4284360" cy="4284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939960" y="819000"/>
            <a:ext cx="756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Is it a func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50920" y="1878120"/>
            <a:ext cx="6773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(It does not pass th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vertical line test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77720" y="2362320"/>
            <a:ext cx="714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0" y="2408400"/>
            <a:ext cx="45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iYzIyYzYwODU4YmJjZTY5ZTUwMTExODdmOTExYmI.gif"/>
          <p:cNvPicPr/>
          <p:nvPr/>
        </p:nvPicPr>
        <p:blipFill>
          <a:blip r:embed="rId1"/>
          <a:stretch/>
        </p:blipFill>
        <p:spPr>
          <a:xfrm>
            <a:off x="2057400" y="2097000"/>
            <a:ext cx="5305320" cy="4075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8"/>
          <p:cNvSpPr/>
          <p:nvPr/>
        </p:nvSpPr>
        <p:spPr>
          <a:xfrm>
            <a:off x="1154160" y="830160"/>
            <a:ext cx="756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Is it a func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1:41:53Z</dcterms:created>
  <dc:creator>Lauren Williams</dc:creator>
  <dc:description/>
  <dc:language>en-US</dc:language>
  <cp:lastModifiedBy>Lauren Williams</cp:lastModifiedBy>
  <dcterms:modified xsi:type="dcterms:W3CDTF">2011-02-17T03:01:13Z</dcterms:modified>
  <cp:revision>34</cp:revision>
  <dc:subject/>
  <dc:title>Slide 1</dc:title>
</cp:coreProperties>
</file>